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9D2E-E7C5-46E3-87B5-4D1CA56FAC4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move the slide</a:t>
            </a:r>
            <a:endParaRPr b="0" lang="en-US" sz="4000" spc="-1" strike="noStrike">
              <a:solidFill>
                <a:srgbClr val="372221"/>
              </a:solidFill>
              <a:latin typeface="Arial"/>
            </a:endParaRPr>
          </a:p>
        </p:txBody>
      </p:sp>
      <p:sp>
        <p:nvSpPr>
          <p:cNvPr id="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6435-F8D5-4723-B0B5-E6C1AF486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5C09-D7D6-46F1-A3DC-689807B9C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n the real world, entities have two or more representations in databases. Duplicate records do not share a common key and/or they contain errors that make duplicate matching a difficult task. Errors are introduced as the result of transcription errors, incomplete information, lack of standard formats, or any combination of these factors. In this paper, we present a thorough analysis of the literature on duplicate record detection. We cover similarity metrics that are commonly used to detect similar field entries, and we present an extensive set of duplicate detection algorithms that can detect approximately duplicate records in a database. We also cover multiple techniques for improving the efficiency and scalability of approximate duplicate detection algorithms. We conclude with coverage of existing tools and with a brief discussion of the big open problems in the are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CCE7-4A7A-4B74-8E73-B0FBB924B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a signature from each fie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57BC-BD2A-4278-AF33-C288E6D6A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B12B-871D-4798-A92E-E22910A29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demos of distanc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islita.com/searchito/levenshtein-edit-distanc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rriampark.com/l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shtein.net/levenshtein_demos.h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01A9-4CB0-4FF5-8558-1C8604C0B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o – most accurate. Find common characters. Determine number of trans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distance and Jaro seem have the highest accurac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F721-7873-4CB1-BEC7-2A83215F0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8E67-40A0-42D7-8438-77FE334A4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f.idf is a weighting scheme tf is the number of times that a word appears in the field and idf is the number of words in the database. Used to compute the cosine similar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5BA7-963F-4E25-8C98-94E1405FD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62D3-5B30-4D74-9076-6219B11F1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ex is most common since 1918. Used mainly to match surnames. Assigns numeric codes to groups of lett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E0CA-EE01-476B-B39B-36C91C312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5B47-B7BD-40A3-B594-EC66182F2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SIIS (1970). Used in the criminal justic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SIIIS 98.72%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ex 95.99% accura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B24E-6295-434D-A82A-BA31DD2A5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A43D-5E60-4CBB-9E38-90E60B323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 number of field comparison metrics reflects the large number of data transformations that may occur in real-lif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tudies on the comparative effectiveness of distance metrics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ric for all data s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advocate flexible metrics using multiple comparative techni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formance for some data sets can perform poorly o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9EE8-12B4-4AF3-956F-025BD13F5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play  an important  role  in  today’s  IT-based economy. Many industries and systems depend on the accuracy of databases to carry out operations. Therefore, the quality of the information (or the lack thereof) stored in the databases can have significant cost implications to a system that relies on information to function and conduct business. In  an  error-free  system  with  perfectly  clean  data,  the construction of a comprehensive view of the data consists of linking—in relational terms, joining—two or more tables on their key fields. Unfortunately, data often lack a unique, global  identifier  that  would  permit  such  an  operation. Furthermore, the data are neither carefully controlled for quality nor defined in a consistent way across different data sources. Thus, data quality is often compromi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B4A2-0C4B-4423-B23D-056969A24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2D0D-FFE5-4F44-9A95-1D5D0D161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records with multiple fiel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ining  set  is  a  set  of  records  drawn  from  the larger  dataset  being  analyzed  that  can  be  used  to rapidly  generate  pre-processing  and  matching  rules. A training set is typically generated by sampling the larger data sets and manually verifying the matching conditions applying domain knowledge of the larger datase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318C-AC6D-448A-B13B-9A139ACE9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first few minutes of this YouTube video to help visualize how Bayes theorem works.</a:t>
            </a:r>
            <a:endParaRPr b="0" lang="en-US" sz="1200" spc="-1" strike="noStrike">
              <a:solidFill>
                <a:srgbClr val="000000"/>
              </a:solidFill>
              <a:latin typeface="Arial"/>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D06E-7697-4200-ADAA-AC7614968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E146-3951-4B3B-AAD8-77CF1C871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s on the existence of training data in the form of record pairs which are pre-labeled as matching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based models may not scale well for large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large number of static training examples</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cases that are ambigu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occurs using a Bayes typ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and Regression Tree (CART) algorithm to classif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ed approach </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learn from specific training data</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as nodes on a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supervised</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model</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DC22-F29B-439B-AE29-30A341BBE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3491-6642-4C8A-B872-AEFD598B0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map the initial training records in L into a pair format via a mapper module. The mapper module takes as input a pair of records rl, r2, computes the nf similarity functions ~ and returns the result as a new record with </a:t>
            </a:r>
            <a:r>
              <a:rPr b="0" i="1" lang="en-US" sz="1200" spc="-1" strike="noStrike">
                <a:solidFill>
                  <a:srgbClr val="000000"/>
                </a:solidFill>
                <a:latin typeface="Arial"/>
              </a:rPr>
              <a:t>n I </a:t>
            </a:r>
            <a:r>
              <a:rPr b="0" lang="en-US" sz="1200" spc="-1" strike="noStrike">
                <a:solidFill>
                  <a:srgbClr val="000000"/>
                </a:solidFill>
                <a:latin typeface="Arial"/>
              </a:rPr>
              <a:t>attribu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duplicate pair we assign a class-label of 'T' and for all the other pairs in L x L we assign a class label of "0". At the end of this step we get a mapped training dataset Lp. These Lp instances are used to initialize the learning component of the syst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map the unlabeled record list D. The mapper is invoked on each pair of records in D x D to generate an unlabeled list of mapped records D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xt describe the interactive active learning session on Dp with the user as the tutor. The learner chooses from the set D~, a subset S of n (a user-configurable parameter, typically less than five) instances that it would most benefit from labeling. The user is shown the set of instances S along with the current prediction of the learner. The user corrects any mistakes of the lear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ly labeled instances in S are added to the training dataset Lp and the active learner is retrain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inspect the trained classifier and/or evaluate its performance on a known test dataset. If (s)he is not happy with the learner trained so far, the active learner can select another set of n instances. This process continues in a loop until the user is happy with the learnt model. In each iteration, the user aids the learner by providing new labeled da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side effect of the user inspecting the model's prediction at each iteration is that, he can discover newer sources of discrepancies and errors in the data and decide to modify his similarity functions or add new on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our system is a deduplication function I that when given a new list of records A can identify which subset of pairs in the cross-product A x A are duplic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9630-601F-44F5-9536-C41891A2C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ctive learning techniques require some training data or some human effort to create the matching models. In the absence of training data or the ability to get human input, supervised and active learning techniques are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metrics: edit, Levenshtein, affine g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odel</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the relational aspect of databases with multiple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fine a matching threshold</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hen training data is available</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es the advantages of distance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39F7-A3A1-43BF-B36A-06648722C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C550-8DFE-4365-89AA-0AF5109D0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quite similar to our data preparation phase: standard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data which doesn’t have a global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 of inference regarding the relationship of data. Someone with a similar name who lives at the same add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DC14-0E57-4175-B194-64E95FA3E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searching method is exploited to reduce the size of the comparison space. It is very expensive to consider all possible record pairs for comparis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record pairs are provided to the comparison functions  to  perform  component-wise  comparison  of  each record pair, and hence generate the comparison ve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decision model is applied to predict the matching status of each comparison v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an evaluation step, to estimate the performance of the decision model, is perfor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ers of TAILOR with regard to 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s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rted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mmi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di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aro’s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undex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babilistic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st-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rror-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duction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uster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ybr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duction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irs Comple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le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3 decisio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BL instance-bas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B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8FAE-D316-4082-8080-3616D715A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in our discussion of methods for detecting whether two records refer to the same real-world object, we have focused mainly on the quality of the comparison techniques and not on the efficiency of the duplicate detection process. Now, we turn to the central issue of improving the speed of duplicate det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9460-9ABE-4A73-BEA6-CA7AA8C10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identity proble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a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crubb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985F-BD9D-4DE6-BFAD-3F3FD25A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technique on a highly discriminating field (e.g. last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can placed in the wrong bucke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EB73-DDC7-4D6F-A5BE-6B83549B7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1 shows how sorting keys might look like. The keys are a combination of sub-lengthened values of attributes in the order of last name, first name, address, and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cords are sorted using the key generated, the attribute that first appears in the key selection has the most discriminating power, followed by the attribu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 subsequently with decreasing discriminating power. Therefore, it is important that the first attribute is chosen wi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termination of field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 data using feature subset selection algorith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records using a subset of all fiel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une decision tre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minimum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5FEB-3712-4651-A9D7-CB31A5DEA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review  such  packages,  focusing  on  tools  that  have  open architecture and allow the users to understand the under-lying mechanics of the matching mechanism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F6EC-DB08-41BA-A3A3-15505175E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L has screen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ducts perform data cleaning and/or duplication detec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6B21-728E-469F-915F-94B367E3B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assessment of database capabilities is out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34F3-C5DB-40E1-9825-89B5DF365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structured information is now derived from unstructured web tex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349E-32B0-4A65-A6A5-7981C3752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issues resulting from incomplete, inconsistent, or erroneous data is crucial for both visual analytics and data management. Therefore, both robust How to visualize missing and agreed methodologies are required. However, visual analytics looks at data? these issues in a different way and the straightforward adoption of the solutions proposed in the data management field could be either a valid solution or an obstacle to the analysis process. For example, assume that we are dealing with a missing or erroneous value. The data management techniques may use some curative algorithms, providing an alternative (e.g., interpolated or statistically computed) value for the bad data, but this solution can hide important facts; perhaps the value is empty because a person omitted to enter a value on the form to evade paying tax or an out of range value indicates a faulty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395A-AEB3-4212-93DF-58AD2812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as a general consideration, it is worth noting that some critical visual analytics issues are the subject of research effort in different scientific areas, often with different names. For example, the activity of data sampling is performed with different goals in both data management and information visualization research activities, but a shared view of problems and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se two research fields does not exist. Therefore, it is essential to find and encourage such potential syn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5 decades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search commun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go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dentify records in the same or different databases that refer to the same real-world entity, even if the records are not identical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D25E-3CF1-4E11-AF0B-4E868AC79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1840" indent="-2318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ignore important information that can be used for duplicate detection</a:t>
            </a:r>
            <a:endParaRPr b="0" lang="en-US" sz="1200" spc="-1" strike="noStrike">
              <a:solidFill>
                <a:srgbClr val="000000"/>
              </a:solidFill>
              <a:latin typeface="Arial"/>
            </a:endParaRPr>
          </a:p>
          <a:p>
            <a:pPr marL="231840" indent="-2318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ases of fraud – suspected criminal might attempt to concoct by alias with a spelling deviation of his/her name. In higher education, data can be collected from multiple sources (e.g. test scores, FAFSA, in addition to being self reported)</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eb information is noisy and imprecise</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 a general consideration, it is worth noting that some critical visual analytics issues are the subject of research effort in different scientific areas, often with different names. For example, the activity of data sampling is performed with different goals in both data management and information visualization research activities, but a shared view of problems and techniques</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se two research fields does not exist. Therefore, it is essential to find and encourage such potential synergies.</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7555C-9D1B-45BD-961A-5697A61B6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E00E8-0B3A-4EF9-95F3-604B48BF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70D83-C03A-45D7-A1DA-A693E51E6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43F8F-8393-4873-8A20-A415F0C7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61422-4564-410C-AE35-E0B5AAC62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6BF62-BEC7-4AF1-AC4E-0AC6DC747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BC995-AF80-40B1-B9ED-511ADC2E4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548F9-B71C-43B2-AE14-BC4AD68FC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7D15D-2ACC-47FF-BEB7-1114E2ED6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50A06-3259-4F02-878F-56BCF627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81B5E-D8EC-4B13-988E-66818EEAC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DD4A-462D-44F0-8EAF-3F5B89AA0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0CED2-B533-436C-86DE-52BED50FA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5B7A1-B8DC-4196-9BD1-7196D84D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70FE8-5929-4443-B6BD-98A6595B9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6704D-0F5C-47B4-9FF5-A4EF68B43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D57C6-DE9D-4D75-AB63-57F3C2F4B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E8C0-3344-404B-8572-85804F52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2629E-0C24-4AE2-8223-79D4DB05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4DA6-7EAA-436B-99EA-A61BFE6F9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9C162-13B6-47E9-A515-E8C0BCBA5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B62D-EA91-4232-9E12-6F12054C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EBBA-F95C-45EE-AA53-95FE64CC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421F-2DDA-41AD-B587-944B04F84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6C4C-FF91-471D-AFB3-EEB8F408406A}"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9501-1F19-4268-A8E3-3CC396FB98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3962520" y="1676520"/>
              <a:ext cx="4724280" cy="114300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D8BF-813E-49CB-A51F-5D511FDBE392}"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4B93-81E1-497F-801B-140D948CD2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1.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usps.com/business/addressverification/welcome.htm?from=business&amp;page=addressver"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8449-4F34-49DB-98B2-B4A343A6C3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uplicate Record Detection: A Survey</a:t>
            </a:r>
            <a:endParaRPr b="0" lang="en-US" sz="3200" spc="-1" strike="noStrike">
              <a:solidFill>
                <a:srgbClr val="372221"/>
              </a:solidFill>
              <a:latin typeface="Arial"/>
            </a:endParaRPr>
          </a:p>
        </p:txBody>
      </p:sp>
      <p:sp>
        <p:nvSpPr>
          <p:cNvPr id="101" name="PlaceHolder 2"/>
          <p:cNvSpPr>
            <a:spLocks noGrp="1"/>
          </p:cNvSpPr>
          <p:nvPr>
            <p:ph type="subTitle"/>
          </p:nvPr>
        </p:nvSpPr>
        <p:spPr>
          <a:xfrm>
            <a:off x="838080" y="3192480"/>
            <a:ext cx="5639040" cy="190512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ed K. Elmagarmid</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due University, West Lafayette, IN</a:t>
            </a: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giotis G. Ipeiroti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onard N. Stern School of Business, New York, NY</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silios S. Verykios</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versity of Thessaly, Volos, Greec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Text Box 5"/>
          <p:cNvSpPr/>
          <p:nvPr/>
        </p:nvSpPr>
        <p:spPr>
          <a:xfrm>
            <a:off x="838080" y="5210280"/>
            <a:ext cx="586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n McCo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796/896 - Spring 2011, Old Dominion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139F-5CF0-4899-85C0-90B6F04378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Preparation Final Steps</a:t>
            </a:r>
            <a:endParaRPr b="0" lang="en-US" sz="4000" spc="-1" strike="noStrike">
              <a:solidFill>
                <a:srgbClr val="372221"/>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data in staging tabl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fields suitable for comparison</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step to perform</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foolproof</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still contain inconsist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36A3-4319-459B-91D5-74DE24FDA4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Field Matching Techniques</a:t>
            </a:r>
            <a:endParaRPr b="0" lang="en-US" sz="3200" spc="-1" strike="noStrike">
              <a:solidFill>
                <a:srgbClr val="372221"/>
              </a:solidFill>
              <a:latin typeface="Arial"/>
            </a:endParaRPr>
          </a:p>
        </p:txBody>
      </p:sp>
      <p:sp>
        <p:nvSpPr>
          <p:cNvPr id="151" name="Text Box 3"/>
          <p:cNvSpPr/>
          <p:nvPr/>
        </p:nvSpPr>
        <p:spPr>
          <a:xfrm>
            <a:off x="609480" y="32004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One of the most common sources of mismatches in database entries is the typographical variations of string data [1].”</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8593-7313-40A0-A148-7C56CFCAD9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Metrics</a:t>
            </a:r>
            <a:endParaRPr b="0" lang="en-US" sz="4000" spc="-1" strike="noStrike">
              <a:solidFill>
                <a:srgbClr val="372221"/>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based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based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tic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Similarity</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F8AE-A23A-483F-8452-0760C564D3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haracter-based Similarity</a:t>
            </a:r>
            <a:endParaRPr b="0" lang="en-US" sz="4000" spc="-1" strike="noStrike">
              <a:solidFill>
                <a:srgbClr val="372221"/>
              </a:solidFill>
              <a:latin typeface="Arial"/>
            </a:endParaRPr>
          </a:p>
        </p:txBody>
      </p:sp>
      <p:sp>
        <p:nvSpPr>
          <p:cNvPr id="157"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st on typographical error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distance (Levenshtei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st sequence of edit commands that can transform a string </a:t>
            </a:r>
            <a:r>
              <a:rPr b="0" i="1" lang="en-US" sz="2800" spc="-1" strike="noStrike">
                <a:solidFill>
                  <a:srgbClr val="000000"/>
                </a:solidFill>
                <a:latin typeface="Arial"/>
              </a:rPr>
              <a:t>s</a:t>
            </a:r>
            <a:r>
              <a:rPr b="0" lang="en-US" sz="2800" spc="-1" strike="noStrike">
                <a:solidFill>
                  <a:srgbClr val="000000"/>
                </a:solidFill>
                <a:latin typeface="Arial"/>
              </a:rPr>
              <a:t> into </a:t>
            </a:r>
            <a:r>
              <a:rPr b="0" i="1" lang="en-US" sz="2800" spc="-1" strike="noStrike">
                <a:solidFill>
                  <a:srgbClr val="000000"/>
                </a:solidFill>
                <a:latin typeface="Arial"/>
              </a:rPr>
              <a:t>t</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of edit operations (cost =1)</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of Levensh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F3D1-99E6-4702-BA0D-5D0AA62864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haracter-based Similarity</a:t>
            </a:r>
            <a:endParaRPr b="0" lang="en-US" sz="4000" spc="-1" strike="noStrike">
              <a:solidFill>
                <a:srgbClr val="372221"/>
              </a:solidFill>
              <a:latin typeface="Arial"/>
            </a:endParaRPr>
          </a:p>
        </p:txBody>
      </p:sp>
      <p:sp>
        <p:nvSpPr>
          <p:cNvPr id="160" name="PlaceHolder 2"/>
          <p:cNvSpPr>
            <a:spLocks noGrp="1"/>
          </p:cNvSpPr>
          <p:nvPr>
            <p:ph/>
          </p:nvPr>
        </p:nvSpPr>
        <p:spPr>
          <a:xfrm>
            <a:off x="948960" y="1600200"/>
            <a:ext cx="7661160" cy="4114800"/>
          </a:xfrm>
          <a:prstGeom prst="rect">
            <a:avLst/>
          </a:prstGeom>
          <a:noFill/>
          <a:ln w="0">
            <a:noFill/>
          </a:ln>
        </p:spPr>
        <p:txBody>
          <a:bodyPr anchor="t">
            <a:normAutofit/>
          </a:bodyPr>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ne gap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hat have been truncated</a:t>
            </a:r>
            <a:endParaRPr b="0" lang="en-US" sz="20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R. Smith versus Jonathan Richard Smith</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Waterman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ring matching which ignores the prefix and suffix</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ro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first and last name</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Grams</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s string into a series of substrings of length </a:t>
            </a:r>
            <a:r>
              <a:rPr b="0" i="1" lang="en-US" sz="2000" spc="-1" strike="noStrike">
                <a:solidFill>
                  <a:srgbClr val="000000"/>
                </a:solidFill>
                <a:latin typeface="Arial"/>
              </a:rPr>
              <a:t>q</a:t>
            </a:r>
            <a:endParaRPr b="0" lang="en-US" sz="2000" spc="-1" strike="noStrike">
              <a:solidFill>
                <a:srgbClr val="000000"/>
              </a:solidFill>
              <a:latin typeface="Arial"/>
            </a:endParaRPr>
          </a:p>
          <a:p>
            <a:pPr lvl="3" marL="168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233C-C202-4BC1-BDE3-1EFEBC7448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oken-based Similarity</a:t>
            </a:r>
            <a:endParaRPr b="0" lang="en-US" sz="4000" spc="-1" strike="noStrike">
              <a:solidFill>
                <a:srgbClr val="372221"/>
              </a:solidFill>
              <a:latin typeface="Arial"/>
            </a:endParaRPr>
          </a:p>
        </p:txBody>
      </p:sp>
      <p:sp>
        <p:nvSpPr>
          <p:cNvPr id="163"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st when word (tokens) are transposed</a:t>
            </a:r>
            <a:endParaRPr b="0" lang="en-US" sz="32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Strings</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average</a:t>
            </a:r>
            <a:endParaRPr b="0" lang="en-US" sz="24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RL</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s words based on frequency to determine similarity</a:t>
            </a:r>
            <a:endParaRPr b="0" lang="en-US" sz="24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Grams with weighting</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WHIRL to handle spelling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5117-F1C4-4B95-8546-EA4F6D8B5A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honetic Similarity</a:t>
            </a:r>
            <a:endParaRPr b="0" lang="en-US" sz="4000" spc="-1" strike="noStrike">
              <a:solidFill>
                <a:srgbClr val="372221"/>
              </a:solidFill>
              <a:latin typeface="Arial"/>
            </a:endParaRPr>
          </a:p>
        </p:txBody>
      </p:sp>
      <p:sp>
        <p:nvSpPr>
          <p:cNvPr id="166"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based on how words sound</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ex [8]</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4" descr=""/>
          <p:cNvPicPr/>
          <p:nvPr/>
        </p:nvPicPr>
        <p:blipFill>
          <a:blip r:embed="rId1"/>
          <a:stretch/>
        </p:blipFill>
        <p:spPr>
          <a:xfrm>
            <a:off x="838080" y="3276720"/>
            <a:ext cx="7012080" cy="213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ACAF-C9D9-4DD9-979C-E191DFA626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honetic Similarity</a:t>
            </a:r>
            <a:endParaRPr b="0" lang="en-US" sz="4000" spc="-1" strike="noStrike">
              <a:solidFill>
                <a:srgbClr val="372221"/>
              </a:solidFill>
              <a:latin typeface="Arial"/>
            </a:endParaRPr>
          </a:p>
        </p:txBody>
      </p:sp>
      <p:sp>
        <p:nvSpPr>
          <p:cNvPr id="170"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tric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State Identification and Intelligence System</a:t>
            </a:r>
            <a:endParaRPr b="0" lang="en-US" sz="28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of NYSIIS</a:t>
            </a:r>
            <a:endParaRPr b="0" lang="en-US" sz="24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ford Name Compression Algorithm</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ne and Double Metaphone</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EADA-0E42-4CA1-96EB-A0E3860CCA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Numeric Similarity</a:t>
            </a:r>
            <a:endParaRPr b="0" lang="en-US" sz="4000" spc="-1" strike="noStrike">
              <a:solidFill>
                <a:srgbClr val="372221"/>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s only number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numbers to text data</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ge queries</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s provided no insight in this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729A-C769-493E-B75D-B5730755D1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ummary of Metrics</a:t>
            </a:r>
            <a:endParaRPr b="0" lang="en-US" sz="4000" spc="-1" strike="noStrike">
              <a:solidFill>
                <a:srgbClr val="372221"/>
              </a:solidFill>
              <a:latin typeface="Arial"/>
            </a:endParaRPr>
          </a:p>
        </p:txBody>
      </p:sp>
      <p:grpSp>
        <p:nvGrpSpPr>
          <p:cNvPr id="176" name="Diagram 16"/>
          <p:cNvGrpSpPr/>
          <p:nvPr/>
        </p:nvGrpSpPr>
        <p:grpSpPr>
          <a:xfrm>
            <a:off x="979200" y="1723680"/>
            <a:ext cx="7187760" cy="4645080"/>
            <a:chOff x="979200" y="1723680"/>
            <a:chExt cx="7187760" cy="4645080"/>
          </a:xfrm>
        </p:grpSpPr>
        <p:sp>
          <p:nvSpPr>
            <p:cNvPr id="177" name="_s2052"/>
            <p:cNvSpPr/>
            <p:nvPr/>
          </p:nvSpPr>
          <p:spPr>
            <a:xfrm flipH="1" flipV="1">
              <a:off x="3385800" y="2610720"/>
              <a:ext cx="936360" cy="1158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2053"/>
            <p:cNvSpPr/>
            <p:nvPr/>
          </p:nvSpPr>
          <p:spPr>
            <a:xfrm>
              <a:off x="2603160" y="1954080"/>
              <a:ext cx="1068840" cy="694800"/>
            </a:xfrm>
            <a:prstGeom prst="rect">
              <a:avLst/>
            </a:prstGeom>
            <a:blipFill rotWithShape="0">
              <a:blip r:embed="rId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t>
              </a:r>
              <a:endParaRPr b="0" lang="en-US" sz="1200" spc="-1" strike="noStrike">
                <a:solidFill>
                  <a:srgbClr val="000000"/>
                </a:solidFill>
                <a:latin typeface="Arial"/>
              </a:endParaRPr>
            </a:p>
          </p:txBody>
        </p:sp>
        <p:sp>
          <p:nvSpPr>
            <p:cNvPr id="179" name="_s2054"/>
            <p:cNvSpPr/>
            <p:nvPr/>
          </p:nvSpPr>
          <p:spPr>
            <a:xfrm flipH="1" flipV="1">
              <a:off x="2476800" y="3137040"/>
              <a:ext cx="1658160" cy="7426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0" name="_s2055"/>
            <p:cNvSpPr/>
            <p:nvPr/>
          </p:nvSpPr>
          <p:spPr>
            <a:xfrm>
              <a:off x="1499760" y="2590560"/>
              <a:ext cx="1068840" cy="694440"/>
            </a:xfrm>
            <a:prstGeom prst="rect">
              <a:avLst/>
            </a:prstGeom>
            <a:blipFill rotWithShape="0">
              <a:blip r:embed="rId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one</a:t>
              </a:r>
              <a:endParaRPr b="0" lang="en-US" sz="1200" spc="-1" strike="noStrike">
                <a:solidFill>
                  <a:srgbClr val="000000"/>
                </a:solidFill>
                <a:latin typeface="Arial"/>
              </a:endParaRPr>
            </a:p>
          </p:txBody>
        </p:sp>
        <p:sp>
          <p:nvSpPr>
            <p:cNvPr id="181" name="_s2056"/>
            <p:cNvSpPr/>
            <p:nvPr/>
          </p:nvSpPr>
          <p:spPr>
            <a:xfrm flipH="1" flipV="1">
              <a:off x="2047680" y="3878640"/>
              <a:ext cx="2000160" cy="1562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2" name="_s2057"/>
            <p:cNvSpPr/>
            <p:nvPr/>
          </p:nvSpPr>
          <p:spPr>
            <a:xfrm>
              <a:off x="979200" y="3488400"/>
              <a:ext cx="1068480" cy="694440"/>
            </a:xfrm>
            <a:prstGeom prst="rect">
              <a:avLst/>
            </a:prstGeom>
            <a:blipFill rotWithShape="0">
              <a:blip r:embed="rId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one</a:t>
              </a:r>
              <a:endParaRPr b="0" lang="en-US" sz="1200" spc="-1" strike="noStrike">
                <a:solidFill>
                  <a:srgbClr val="000000"/>
                </a:solidFill>
                <a:latin typeface="Arial"/>
              </a:endParaRPr>
            </a:p>
          </p:txBody>
        </p:sp>
        <p:sp>
          <p:nvSpPr>
            <p:cNvPr id="183" name="_s2058"/>
            <p:cNvSpPr/>
            <p:nvPr/>
          </p:nvSpPr>
          <p:spPr>
            <a:xfrm flipH="1">
              <a:off x="2198160" y="4198680"/>
              <a:ext cx="1881360" cy="465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2059"/>
            <p:cNvSpPr/>
            <p:nvPr/>
          </p:nvSpPr>
          <p:spPr>
            <a:xfrm>
              <a:off x="1158480" y="4439160"/>
              <a:ext cx="1068840" cy="694800"/>
            </a:xfrm>
            <a:prstGeom prst="rect">
              <a:avLst/>
            </a:prstGeom>
            <a:blipFill rotWithShape="0">
              <a:blip r:embed="rId4"/>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f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ression</a:t>
              </a:r>
              <a:endParaRPr b="0" lang="en-US" sz="1200" spc="-1" strike="noStrike">
                <a:solidFill>
                  <a:srgbClr val="000000"/>
                </a:solidFill>
                <a:latin typeface="Arial"/>
              </a:endParaRPr>
            </a:p>
          </p:txBody>
        </p:sp>
        <p:sp>
          <p:nvSpPr>
            <p:cNvPr id="185" name="_s2060"/>
            <p:cNvSpPr/>
            <p:nvPr/>
          </p:nvSpPr>
          <p:spPr>
            <a:xfrm flipH="1">
              <a:off x="2891520" y="4334400"/>
              <a:ext cx="1333080" cy="9802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2061"/>
            <p:cNvSpPr/>
            <p:nvPr/>
          </p:nvSpPr>
          <p:spPr>
            <a:xfrm>
              <a:off x="1997280" y="5228640"/>
              <a:ext cx="1068840" cy="694800"/>
            </a:xfrm>
            <a:prstGeom prst="rect">
              <a:avLst/>
            </a:prstGeom>
            <a:blipFill rotWithShape="0">
              <a:blip r:embed="rId5"/>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SIIS</a:t>
              </a:r>
              <a:endParaRPr b="0" lang="en-US" sz="1200" spc="-1" strike="noStrike">
                <a:solidFill>
                  <a:srgbClr val="000000"/>
                </a:solidFill>
                <a:latin typeface="Arial"/>
              </a:endParaRPr>
            </a:p>
          </p:txBody>
        </p:sp>
        <p:sp>
          <p:nvSpPr>
            <p:cNvPr id="187" name="_s2062"/>
            <p:cNvSpPr/>
            <p:nvPr/>
          </p:nvSpPr>
          <p:spPr>
            <a:xfrm flipH="1">
              <a:off x="3970800" y="4410000"/>
              <a:ext cx="478440" cy="12708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2063"/>
            <p:cNvSpPr/>
            <p:nvPr/>
          </p:nvSpPr>
          <p:spPr>
            <a:xfrm>
              <a:off x="3304440" y="5673960"/>
              <a:ext cx="1068480" cy="694800"/>
            </a:xfrm>
            <a:prstGeom prst="rect">
              <a:avLst/>
            </a:prstGeom>
            <a:blipFill rotWithShape="0">
              <a:blip r:embed="rId6"/>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ndex</a:t>
              </a:r>
              <a:endParaRPr b="0" lang="en-US" sz="1200" spc="-1" strike="noStrike">
                <a:solidFill>
                  <a:srgbClr val="000000"/>
                </a:solidFill>
                <a:latin typeface="Arial"/>
              </a:endParaRPr>
            </a:p>
          </p:txBody>
        </p:sp>
        <p:sp>
          <p:nvSpPr>
            <p:cNvPr id="189" name="_s2064"/>
            <p:cNvSpPr/>
            <p:nvPr/>
          </p:nvSpPr>
          <p:spPr>
            <a:xfrm>
              <a:off x="4703760" y="4408200"/>
              <a:ext cx="483840" cy="12708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2065"/>
            <p:cNvSpPr/>
            <p:nvPr/>
          </p:nvSpPr>
          <p:spPr>
            <a:xfrm>
              <a:off x="4780440" y="5672160"/>
              <a:ext cx="1068840" cy="694800"/>
            </a:xfrm>
            <a:prstGeom prst="rect">
              <a:avLst/>
            </a:prstGeom>
            <a:blipFill rotWithShape="0">
              <a:blip r:embed="rId7"/>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Grams</a:t>
              </a:r>
              <a:endParaRPr b="0" lang="en-US" sz="1200" spc="-1" strike="noStrike">
                <a:solidFill>
                  <a:srgbClr val="000000"/>
                </a:solidFill>
                <a:latin typeface="Arial"/>
              </a:endParaRPr>
            </a:p>
          </p:txBody>
        </p:sp>
        <p:sp>
          <p:nvSpPr>
            <p:cNvPr id="191" name="_s2066"/>
            <p:cNvSpPr/>
            <p:nvPr/>
          </p:nvSpPr>
          <p:spPr>
            <a:xfrm>
              <a:off x="4928760" y="4330800"/>
              <a:ext cx="1335960" cy="978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2" name="_s2067"/>
            <p:cNvSpPr/>
            <p:nvPr/>
          </p:nvSpPr>
          <p:spPr>
            <a:xfrm>
              <a:off x="6084720" y="5225040"/>
              <a:ext cx="1068840" cy="694800"/>
            </a:xfrm>
            <a:prstGeom prst="rect">
              <a:avLst/>
            </a:prstGeom>
            <a:blipFill rotWithShape="0">
              <a:blip r:embed="rId8"/>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RL</a:t>
              </a:r>
              <a:endParaRPr b="0" lang="en-US" sz="1200" spc="-1" strike="noStrike">
                <a:solidFill>
                  <a:srgbClr val="000000"/>
                </a:solidFill>
                <a:latin typeface="Arial"/>
              </a:endParaRPr>
            </a:p>
          </p:txBody>
        </p:sp>
        <p:sp>
          <p:nvSpPr>
            <p:cNvPr id="193" name="_s2068"/>
            <p:cNvSpPr/>
            <p:nvPr/>
          </p:nvSpPr>
          <p:spPr>
            <a:xfrm>
              <a:off x="5071320" y="4195080"/>
              <a:ext cx="1883880" cy="4622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4" name="_s2069"/>
            <p:cNvSpPr/>
            <p:nvPr/>
          </p:nvSpPr>
          <p:spPr>
            <a:xfrm>
              <a:off x="6921000" y="4435560"/>
              <a:ext cx="1068480" cy="694800"/>
            </a:xfrm>
            <a:prstGeom prst="rect">
              <a:avLst/>
            </a:prstGeom>
            <a:blipFill rotWithShape="0">
              <a:blip r:embed="rId9"/>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om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ngs</a:t>
              </a:r>
              <a:endParaRPr b="0" lang="en-US" sz="1200" spc="-1" strike="noStrike">
                <a:solidFill>
                  <a:srgbClr val="000000"/>
                </a:solidFill>
                <a:latin typeface="Arial"/>
              </a:endParaRPr>
            </a:p>
          </p:txBody>
        </p:sp>
        <p:sp>
          <p:nvSpPr>
            <p:cNvPr id="195" name="_s2070"/>
            <p:cNvSpPr/>
            <p:nvPr/>
          </p:nvSpPr>
          <p:spPr>
            <a:xfrm flipV="1">
              <a:off x="5100840" y="3871440"/>
              <a:ext cx="2000160" cy="1580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6" name="_s2071"/>
            <p:cNvSpPr/>
            <p:nvPr/>
          </p:nvSpPr>
          <p:spPr>
            <a:xfrm>
              <a:off x="7098120" y="3483000"/>
              <a:ext cx="1068840" cy="694800"/>
            </a:xfrm>
            <a:prstGeom prst="rect">
              <a:avLst/>
            </a:prstGeom>
            <a:blipFill rotWithShape="0">
              <a:blip r:embed="rId10"/>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lang="en-US" sz="1200" spc="-1" strike="noStrike">
                <a:solidFill>
                  <a:srgbClr val="000000"/>
                </a:solidFill>
                <a:latin typeface="Arial"/>
              </a:endParaRPr>
            </a:p>
          </p:txBody>
        </p:sp>
        <p:sp>
          <p:nvSpPr>
            <p:cNvPr id="197" name="_s2072"/>
            <p:cNvSpPr/>
            <p:nvPr/>
          </p:nvSpPr>
          <p:spPr>
            <a:xfrm flipV="1">
              <a:off x="5008320" y="3132360"/>
              <a:ext cx="1658880" cy="7444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_s2073"/>
            <p:cNvSpPr/>
            <p:nvPr/>
          </p:nvSpPr>
          <p:spPr>
            <a:xfrm>
              <a:off x="6574320" y="2586960"/>
              <a:ext cx="1068840" cy="694440"/>
            </a:xfrm>
            <a:prstGeom prst="rect">
              <a:avLst/>
            </a:prstGeom>
            <a:blipFill rotWithShape="0">
              <a:blip r:embed="rId1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man</a:t>
              </a:r>
              <a:endParaRPr b="0" lang="en-US" sz="1200" spc="-1" strike="noStrike">
                <a:solidFill>
                  <a:srgbClr val="000000"/>
                </a:solidFill>
                <a:latin typeface="Arial"/>
              </a:endParaRPr>
            </a:p>
          </p:txBody>
        </p:sp>
        <p:sp>
          <p:nvSpPr>
            <p:cNvPr id="199" name="_s2074"/>
            <p:cNvSpPr/>
            <p:nvPr/>
          </p:nvSpPr>
          <p:spPr>
            <a:xfrm flipV="1">
              <a:off x="4817520" y="2607480"/>
              <a:ext cx="936360" cy="11602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075"/>
            <p:cNvSpPr/>
            <p:nvPr/>
          </p:nvSpPr>
          <p:spPr>
            <a:xfrm>
              <a:off x="5468760" y="1952640"/>
              <a:ext cx="1068480" cy="694440"/>
            </a:xfrm>
            <a:prstGeom prst="rect">
              <a:avLst/>
            </a:prstGeom>
            <a:blipFill rotWithShape="0">
              <a:blip r:embed="rId1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ne Gap</a:t>
              </a:r>
              <a:endParaRPr b="0" lang="en-US" sz="1200" spc="-1" strike="noStrike">
                <a:solidFill>
                  <a:srgbClr val="000000"/>
                </a:solidFill>
                <a:latin typeface="Arial"/>
              </a:endParaRPr>
            </a:p>
          </p:txBody>
        </p:sp>
        <p:sp>
          <p:nvSpPr>
            <p:cNvPr id="201" name="_s2076"/>
            <p:cNvSpPr/>
            <p:nvPr/>
          </p:nvSpPr>
          <p:spPr>
            <a:xfrm flipV="1">
              <a:off x="4571640" y="2418120"/>
              <a:ext cx="0" cy="13100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077"/>
            <p:cNvSpPr/>
            <p:nvPr/>
          </p:nvSpPr>
          <p:spPr>
            <a:xfrm>
              <a:off x="4037040" y="1723680"/>
              <a:ext cx="1068840" cy="694800"/>
            </a:xfrm>
            <a:prstGeom prst="rect">
              <a:avLst/>
            </a:prstGeom>
            <a:blipFill rotWithShape="0">
              <a:blip r:embed="rId1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nshtein)</a:t>
              </a:r>
              <a:endParaRPr b="0" lang="en-US" sz="1200" spc="-1" strike="noStrike">
                <a:solidFill>
                  <a:srgbClr val="000000"/>
                </a:solidFill>
                <a:latin typeface="Arial"/>
              </a:endParaRPr>
            </a:p>
          </p:txBody>
        </p:sp>
        <p:sp>
          <p:nvSpPr>
            <p:cNvPr id="203" name="_s2078"/>
            <p:cNvSpPr/>
            <p:nvPr/>
          </p:nvSpPr>
          <p:spPr>
            <a:xfrm>
              <a:off x="4037040" y="3728880"/>
              <a:ext cx="1068840" cy="694800"/>
            </a:xfrm>
            <a:prstGeom prst="rect">
              <a:avLst/>
            </a:prstGeom>
            <a:blipFill rotWithShape="0">
              <a:blip r:embed="rId14"/>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2168-5883-41C9-A2C2-86F4C4B7B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Introduction to the Problem</a:t>
            </a:r>
            <a:endParaRPr b="0" lang="en-US" sz="3200" spc="-1" strike="noStrike">
              <a:solidFill>
                <a:srgbClr val="372221"/>
              </a:solidFill>
              <a:latin typeface="Arial"/>
            </a:endParaRPr>
          </a:p>
        </p:txBody>
      </p:sp>
      <p:sp>
        <p:nvSpPr>
          <p:cNvPr id="105" name="Text Box 5"/>
          <p:cNvSpPr/>
          <p:nvPr/>
        </p:nvSpPr>
        <p:spPr>
          <a:xfrm>
            <a:off x="838080" y="36180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s play an important role in today’s IT based economy [1].”</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0B10-360A-46B0-983A-3AD1CAC3B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etecting Duplicate Records</a:t>
            </a:r>
            <a:endParaRPr b="0" lang="en-US" sz="3200" spc="-1" strike="noStrike">
              <a:solidFill>
                <a:srgbClr val="372221"/>
              </a:solidFill>
              <a:latin typeface="Arial"/>
            </a:endParaRPr>
          </a:p>
        </p:txBody>
      </p:sp>
      <p:sp>
        <p:nvSpPr>
          <p:cNvPr id="206" name="Text Box 3"/>
          <p:cNvSpPr/>
          <p:nvPr/>
        </p:nvSpPr>
        <p:spPr>
          <a:xfrm>
            <a:off x="609480" y="3429000"/>
            <a:ext cx="7620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In most real-life situations, however, the records consist of multiple fields, making the duplicate detection problem much more complicated [1].”</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F524-4A1D-438E-8A33-123FB9E69F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ategorizing Methods</a:t>
            </a:r>
            <a:endParaRPr b="0" lang="en-US" sz="4000" spc="-1" strike="noStrike">
              <a:solidFill>
                <a:srgbClr val="372221"/>
              </a:solidFill>
              <a:latin typeface="Arial"/>
            </a:endParaRPr>
          </a:p>
        </p:txBody>
      </p:sp>
      <p:sp>
        <p:nvSpPr>
          <p:cNvPr id="209"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 data to “learn” how to match [5]</a:t>
            </a:r>
            <a:endParaRPr b="0" lang="en-US" sz="32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records derived from the larger dataset</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pre-processing and matching rules</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verify the matching conditions</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domain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F0CF-15CA-42BA-899F-ABB8C05728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robabilistic Matching Models</a:t>
            </a:r>
            <a:endParaRPr b="0" lang="en-US" sz="4000" spc="-1" strike="noStrike">
              <a:solidFill>
                <a:srgbClr val="372221"/>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derived from Bayes theorem</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ior knowledge to make decision about current data set</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based decision tree</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then-else traversal</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Demo of Bayes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6BE6-589D-4070-907B-E544028500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Approaches to Training Data</a:t>
            </a:r>
            <a:endParaRPr b="0" lang="en-US" sz="4000" spc="-1" strike="noStrike">
              <a:solidFill>
                <a:srgbClr val="372221"/>
              </a:solidFill>
              <a:latin typeface="Arial"/>
            </a:endParaRPr>
          </a:p>
        </p:txBody>
      </p:sp>
      <p:sp>
        <p:nvSpPr>
          <p:cNvPr id="215"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Learn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Based</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B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3FD9-AB9E-4159-ADF0-39EE9439EB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Active-Learning Example</a:t>
            </a:r>
            <a:endParaRPr b="0" lang="en-US" sz="4000" spc="-1" strike="noStrike">
              <a:solidFill>
                <a:srgbClr val="372221"/>
              </a:solidFill>
              <a:latin typeface="Arial"/>
            </a:endParaRPr>
          </a:p>
        </p:txBody>
      </p:sp>
      <p:sp>
        <p:nvSpPr>
          <p:cNvPr id="218"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AS [5]</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
          <p:cNvPicPr/>
          <p:nvPr/>
        </p:nvPicPr>
        <p:blipFill>
          <a:blip r:embed="rId1"/>
          <a:stretch/>
        </p:blipFill>
        <p:spPr>
          <a:xfrm>
            <a:off x="304920" y="2638440"/>
            <a:ext cx="8839080" cy="31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C8BD-72CA-46C6-B987-1C9F3488BE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istance-based Techniques</a:t>
            </a:r>
            <a:endParaRPr b="0" lang="en-US" sz="4000" spc="-1" strike="noStrike">
              <a:solidFill>
                <a:srgbClr val="372221"/>
              </a:solidFill>
              <a:latin typeface="Arial"/>
            </a:endParaRPr>
          </a:p>
        </p:txBody>
      </p:sp>
      <p:sp>
        <p:nvSpPr>
          <p:cNvPr id="222"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a record as a one long field</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distance metri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matches are ranked using a weighting algorithm</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ly, use a single field</a:t>
            </a:r>
            <a:endParaRPr b="0" lang="en-US" sz="28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highly discrimin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2697-68DC-4D84-B583-3B99FAA5F1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ule-Based Approaches</a:t>
            </a:r>
            <a:endParaRPr b="0" lang="en-US" sz="4000" spc="-1" strike="noStrike">
              <a:solidFill>
                <a:srgbClr val="372221"/>
              </a:solidFill>
              <a:latin typeface="Arial"/>
            </a:endParaRPr>
          </a:p>
        </p:txBody>
      </p:sp>
      <p:sp>
        <p:nvSpPr>
          <p:cNvPr id="225" name="PlaceHolder 2"/>
          <p:cNvSpPr>
            <a:spLocks noGrp="1"/>
          </p:cNvSpPr>
          <p:nvPr>
            <p:ph/>
          </p:nvPr>
        </p:nvSpPr>
        <p:spPr>
          <a:xfrm>
            <a:off x="948960" y="1600200"/>
            <a:ext cx="7661160" cy="449568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es on business rules to derive key</a:t>
            </a:r>
            <a:endParaRPr b="0" lang="en-US" sz="32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termine functional dependencies</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ubject matter expert to build matching rules</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6" descr=""/>
          <p:cNvPicPr/>
          <p:nvPr/>
        </p:nvPicPr>
        <p:blipFill>
          <a:blip r:embed="rId1"/>
          <a:stretch/>
        </p:blipFill>
        <p:spPr>
          <a:xfrm>
            <a:off x="2743200" y="4059360"/>
            <a:ext cx="3510000" cy="142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714E-A6AD-4F40-9903-E6D63665A6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Unsupervised Learning</a:t>
            </a:r>
            <a:endParaRPr b="0" lang="en-US" sz="4000" spc="-1" strike="noStrike">
              <a:solidFill>
                <a:srgbClr val="372221"/>
              </a:solidFill>
              <a:latin typeface="Arial"/>
            </a:endParaRPr>
          </a:p>
        </p:txBody>
      </p:sp>
      <p:sp>
        <p:nvSpPr>
          <p:cNvPr id="229"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data as matched or unmatched without a training set</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 [7]</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5" descr=""/>
          <p:cNvPicPr/>
          <p:nvPr/>
        </p:nvPicPr>
        <p:blipFill>
          <a:blip r:embed="rId1"/>
          <a:stretch/>
        </p:blipFill>
        <p:spPr>
          <a:xfrm>
            <a:off x="1359000" y="3532320"/>
            <a:ext cx="6424560" cy="263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5F40-F4EB-4540-8789-06B828CA43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Improving the Efficiency of Duplicate Detection</a:t>
            </a:r>
            <a:endParaRPr b="0" lang="en-US" sz="3200" spc="-1" strike="noStrike">
              <a:solidFill>
                <a:srgbClr val="372221"/>
              </a:solidFill>
              <a:latin typeface="Arial"/>
            </a:endParaRPr>
          </a:p>
        </p:txBody>
      </p:sp>
      <p:sp>
        <p:nvSpPr>
          <p:cNvPr id="233" name="Text Box 3"/>
          <p:cNvSpPr/>
          <p:nvPr/>
        </p:nvSpPr>
        <p:spPr>
          <a:xfrm>
            <a:off x="609480" y="335268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e have focused mainly on the quality of the comparison techniques and not on the efficiency of the duplicate detection process. Now, we turn to the central issue of improving the speed of duplicate detection [1].”</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E2E5-E509-4A33-97E9-51F5CFB679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Methods</a:t>
            </a:r>
            <a:endParaRPr b="0" lang="en-US" sz="4000" spc="-1" strike="noStrike">
              <a:solidFill>
                <a:srgbClr val="372221"/>
              </a:solidFill>
              <a:latin typeface="Arial"/>
            </a:endParaRPr>
          </a:p>
        </p:txBody>
      </p:sp>
      <p:sp>
        <p:nvSpPr>
          <p:cNvPr id="23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the number of record comparison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the efficiency of record compari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C025-12BE-48A3-A334-CA55E79453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Quality</a:t>
            </a:r>
            <a:endParaRPr b="0" lang="en-US" sz="4000" spc="-1" strike="noStrike">
              <a:solidFill>
                <a:srgbClr val="372221"/>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heterogeneity</a:t>
            </a:r>
            <a:endParaRPr b="0" lang="en-US" sz="32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cord structure</a:t>
            </a:r>
            <a:endParaRPr b="0" lang="en-US" sz="24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 </a:t>
            </a:r>
            <a:r>
              <a:rPr b="0" lang="en-US" sz="2400" spc="-1" strike="noStrike">
                <a:solidFill>
                  <a:srgbClr val="000000"/>
                </a:solidFill>
                <a:latin typeface="Arial"/>
              </a:rPr>
              <a:t>versus</a:t>
            </a:r>
            <a:r>
              <a:rPr b="0" i="1" lang="en-US" sz="2400" spc="-1" strike="noStrike">
                <a:solidFill>
                  <a:srgbClr val="000000"/>
                </a:solidFill>
                <a:latin typeface="Arial"/>
              </a:rPr>
              <a:t> City, State, and Zip code [1]</a:t>
            </a:r>
            <a:endParaRPr b="0" lang="en-US" sz="24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xical heterogeneity</a:t>
            </a:r>
            <a:endParaRPr b="0" lang="en-US" sz="32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record structure, but data is different</a:t>
            </a:r>
            <a:endParaRPr b="0" lang="en-US" sz="24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4 W. 4</a:t>
            </a:r>
            <a:r>
              <a:rPr b="0" i="1" lang="en-US" sz="2400" spc="-1" strike="noStrike" baseline="30000">
                <a:solidFill>
                  <a:srgbClr val="000000"/>
                </a:solidFill>
                <a:latin typeface="Arial"/>
              </a:rPr>
              <a:t>th</a:t>
            </a:r>
            <a:r>
              <a:rPr b="0" i="1" lang="en-US" sz="2400" spc="-1" strike="noStrike">
                <a:solidFill>
                  <a:srgbClr val="000000"/>
                </a:solidFill>
                <a:latin typeface="Arial"/>
              </a:rPr>
              <a:t> St. </a:t>
            </a:r>
            <a:r>
              <a:rPr b="0" lang="en-US" sz="2400" spc="-1" strike="noStrike">
                <a:solidFill>
                  <a:srgbClr val="000000"/>
                </a:solidFill>
                <a:latin typeface="Arial"/>
              </a:rPr>
              <a:t>versus</a:t>
            </a:r>
            <a:r>
              <a:rPr b="0" i="1" lang="en-US" sz="2400" spc="-1" strike="noStrike">
                <a:solidFill>
                  <a:srgbClr val="000000"/>
                </a:solidFill>
                <a:latin typeface="Arial"/>
              </a:rPr>
              <a:t> 44 West Fourth Stree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43CE-A563-4EBA-A46C-24EFC1B7D0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omparative Metrics</a:t>
            </a:r>
            <a:endParaRPr b="0" lang="en-US" sz="4000" spc="-1" strike="noStrike">
              <a:solidFill>
                <a:srgbClr val="372221"/>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ry nested loop</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every record in one table to another table</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B comparisons (Cartesian product) which is very expensive</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required for a single comparison</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der number of fields/record</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0D78-7D4E-4266-A1B3-28BB30B15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duce Record Comparisons</a:t>
            </a:r>
            <a:endParaRPr b="0" lang="en-US" sz="4000" spc="-1" strike="noStrike">
              <a:solidFill>
                <a:srgbClr val="372221"/>
              </a:solidFill>
              <a:latin typeface="Arial"/>
            </a:endParaRPr>
          </a:p>
        </p:txBody>
      </p:sp>
      <p:sp>
        <p:nvSpPr>
          <p:cNvPr id="2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Neighborhood</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ing and Canopi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Jo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0B0C-932F-4EE9-A89D-746FA3E78B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Blocking</a:t>
            </a:r>
            <a:endParaRPr b="0" lang="en-US" sz="4000" spc="-1" strike="noStrike">
              <a:solidFill>
                <a:srgbClr val="372221"/>
              </a:solidFill>
              <a:latin typeface="Arial"/>
            </a:endParaRPr>
          </a:p>
        </p:txBody>
      </p:sp>
      <p:sp>
        <p:nvSpPr>
          <p:cNvPr id="245" name="PlaceHolder 2"/>
          <p:cNvSpPr>
            <a:spLocks noGrp="1"/>
          </p:cNvSpPr>
          <p:nvPr>
            <p:ph/>
          </p:nvPr>
        </p:nvSpPr>
        <p:spPr>
          <a:xfrm>
            <a:off x="838080" y="1600200"/>
            <a:ext cx="7661520" cy="4114800"/>
          </a:xfrm>
          <a:prstGeom prst="rect">
            <a:avLst/>
          </a:prstGeom>
          <a:noFill/>
          <a:ln w="0">
            <a:noFill/>
          </a:ln>
        </p:spPr>
        <p:txBody>
          <a:bodyPr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Compute a hash value for each record</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pare records in the same bucket</a:t>
            </a:r>
            <a:endParaRPr b="0" lang="en-US" sz="24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divide files into subsets (blocks)</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ex, NYSIIS, or Metaphone</a:t>
            </a:r>
            <a:endParaRPr b="0" lang="en-US" sz="24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speed may increase number of false mismatches</a:t>
            </a:r>
            <a:endParaRPr b="0" lang="en-US" sz="24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is multiple runs using different blocking fields</a:t>
            </a:r>
            <a:endParaRPr b="0" lang="en-US" sz="2400" spc="-1" strike="noStrike">
              <a:solidFill>
                <a:srgbClr val="000000"/>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C4AE-7AA6-46A1-8814-F9570368FA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p:nvPr>
        </p:nvSpPr>
        <p:spPr>
          <a:xfrm>
            <a:off x="914040" y="1523520"/>
            <a:ext cx="7661160" cy="1676520"/>
          </a:xfrm>
          <a:prstGeom prst="rect">
            <a:avLst/>
          </a:prstGeom>
          <a:noFill/>
          <a:ln w="0">
            <a:noFill/>
          </a:ln>
        </p:spPr>
        <p:txBody>
          <a:bodyPr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osite key, sort data, merge</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a:p>
            <a:pPr lvl="1" marL="888840" indent="-439560">
              <a:lnSpc>
                <a:spcPct val="8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e records will be close in sorted system</a:t>
            </a:r>
            <a:endParaRPr b="0" lang="en-US" sz="2400" spc="-1" strike="noStrike">
              <a:solidFill>
                <a:srgbClr val="000000"/>
              </a:solidFill>
              <a:latin typeface="Arial"/>
            </a:endParaRPr>
          </a:p>
          <a:p>
            <a:pPr lvl="1" marL="888840" indent="-439560">
              <a:lnSpc>
                <a:spcPct val="8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dependent upon the comparison key</a:t>
            </a:r>
            <a:endParaRPr b="0" lang="en-US" sz="2400" spc="-1" strike="noStrike">
              <a:solidFill>
                <a:srgbClr val="000000"/>
              </a:solidFill>
              <a:latin typeface="Arial"/>
            </a:endParaRPr>
          </a:p>
        </p:txBody>
      </p:sp>
      <p:sp>
        <p:nvSpPr>
          <p:cNvPr id="248" name="PlaceHolder 2"/>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orted Neighborhood</a:t>
            </a:r>
            <a:endParaRPr b="0" lang="en-US" sz="4000" spc="-1" strike="noStrike">
              <a:solidFill>
                <a:srgbClr val="372221"/>
              </a:solidFill>
              <a:latin typeface="Arial"/>
            </a:endParaRPr>
          </a:p>
        </p:txBody>
      </p:sp>
      <p:graphicFrame>
        <p:nvGraphicFramePr>
          <p:cNvPr id="249" name=""/>
          <p:cNvGraphicFramePr/>
          <p:nvPr/>
        </p:nvGraphicFramePr>
        <p:xfrm>
          <a:off x="914400" y="3782880"/>
          <a:ext cx="7543800" cy="1400400"/>
        </p:xfrm>
        <a:graphic>
          <a:graphicData uri="http://schemas.openxmlformats.org/drawingml/2006/table">
            <a:tbl>
              <a:tblPr/>
              <a:tblGrid>
                <a:gridCol w="1273320"/>
                <a:gridCol w="1271520"/>
                <a:gridCol w="1817640"/>
                <a:gridCol w="1181160"/>
                <a:gridCol w="2000160"/>
              </a:tblGrid>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Nam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st 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f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7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SAL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ph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8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SAL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f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8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STO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0" name="Text Box 112"/>
          <p:cNvSpPr/>
          <p:nvPr/>
        </p:nvSpPr>
        <p:spPr>
          <a:xfrm>
            <a:off x="838080" y="5257800"/>
            <a:ext cx="777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ing keys generated for the SN method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37A7-9C7C-4983-9B2F-9E144930A5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uplicate Detection Tools</a:t>
            </a:r>
            <a:endParaRPr b="0" lang="en-US" sz="3200" spc="-1" strike="noStrike">
              <a:solidFill>
                <a:srgbClr val="372221"/>
              </a:solidFill>
              <a:latin typeface="Arial"/>
            </a:endParaRPr>
          </a:p>
        </p:txBody>
      </p:sp>
      <p:sp>
        <p:nvSpPr>
          <p:cNvPr id="253" name="Text Box 3"/>
          <p:cNvSpPr/>
          <p:nvPr/>
        </p:nvSpPr>
        <p:spPr>
          <a:xfrm>
            <a:off x="685800" y="32767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ver the past several years, a range of tools for cleaning data has appeared on the market and research groups have made available to the public software packages that can be used for duplicate record detection [1].”</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15E4-74CF-4EF0-B155-F417E6CEB3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oftware Tools</a:t>
            </a:r>
            <a:endParaRPr b="0" lang="en-US" sz="4000" spc="-1" strike="noStrike">
              <a:solidFill>
                <a:srgbClr val="372221"/>
              </a:solidFill>
              <a:latin typeface="Arial"/>
            </a:endParaRPr>
          </a:p>
        </p:txBody>
      </p:sp>
      <p:sp>
        <p:nvSpPr>
          <p:cNvPr id="256"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rchitecture</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ly Extensible Biomedical Record Linkage (FEBRL) - Pytho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 – MLC++, DBGe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RL – 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ingo Project - 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Match -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3633-0A72-4493-9CE0-6662C14EEE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base Tools</a:t>
            </a:r>
            <a:endParaRPr b="0" lang="en-US" sz="4000" spc="-1" strike="noStrike">
              <a:solidFill>
                <a:srgbClr val="372221"/>
              </a:solidFill>
              <a:latin typeface="Arial"/>
            </a:endParaRPr>
          </a:p>
        </p:txBody>
      </p:sp>
      <p:sp>
        <p:nvSpPr>
          <p:cNvPr id="259"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RDBM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erver 2005 implements “fuzzy matches”</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11g implements these techniques in its utl_match package </a:t>
            </a:r>
            <a:endParaRPr b="0" lang="en-US" sz="28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nshtein Distance</a:t>
            </a:r>
            <a:endParaRPr b="0" lang="en-US" sz="24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ex</a:t>
            </a:r>
            <a:endParaRPr b="0" lang="en-US" sz="24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ro Win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C6CE-CECE-4208-B7DA-E696F45139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Future Directions</a:t>
            </a:r>
            <a:endParaRPr b="0" lang="en-US" sz="3200" spc="-1" strike="noStrike">
              <a:solidFill>
                <a:srgbClr val="372221"/>
              </a:solidFill>
              <a:latin typeface="Arial"/>
            </a:endParaRPr>
          </a:p>
        </p:txBody>
      </p:sp>
      <p:sp>
        <p:nvSpPr>
          <p:cNvPr id="262" name="Text Box 3"/>
          <p:cNvSpPr/>
          <p:nvPr/>
        </p:nvSpPr>
        <p:spPr>
          <a:xfrm>
            <a:off x="609480" y="3429000"/>
            <a:ext cx="800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s database systems are becoming more and more commonplace, data cleaning is going to be the cornerstone for correcting errors in systems which are accumulating vast amounts of errors on a daily basis [1].”</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EC85-FE90-4550-BA0C-EFDFA2CFD2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aper’s Conclusions</a:t>
            </a:r>
            <a:endParaRPr b="0" lang="en-US" sz="4000" spc="-1" strike="noStrike">
              <a:solidFill>
                <a:srgbClr val="372221"/>
              </a:solidFill>
              <a:latin typeface="Arial"/>
            </a:endParaRPr>
          </a:p>
        </p:txBody>
      </p:sp>
      <p:sp>
        <p:nvSpPr>
          <p:cNvPr id="265" name="PlaceHolder 2"/>
          <p:cNvSpPr>
            <a:spLocks noGrp="1"/>
          </p:cNvSpPr>
          <p:nvPr>
            <p:ph/>
          </p:nvPr>
        </p:nvSpPr>
        <p:spPr>
          <a:xfrm>
            <a:off x="948960" y="1752480"/>
            <a:ext cx="7661160" cy="4114800"/>
          </a:xfrm>
          <a:prstGeom prst="rect">
            <a:avLst/>
          </a:prstGeom>
          <a:noFill/>
          <a:ln w="0">
            <a:noFill/>
          </a:ln>
        </p:spPr>
        <p:txBody>
          <a:bodyPr anchor="t">
            <a:normAutofit/>
          </a:bodyPr>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 standardized, large-scale benchmarking data set</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data is needed to produce matching models</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iversion</a:t>
            </a:r>
            <a:endParaRPr b="0" lang="en-US" sz="24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emphasize simple, fast, and efficient techniques</a:t>
            </a:r>
            <a:endParaRPr b="0" lang="en-US" sz="20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learning and statistics rely on sophisticated techniques and probabilistic models</a:t>
            </a:r>
            <a:endParaRPr b="0" lang="en-US" sz="20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ynergy is needed among various communities</a:t>
            </a:r>
            <a:endParaRPr b="0" lang="en-US" sz="20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ystems need to be adaptive over time</a:t>
            </a:r>
            <a:endParaRPr b="0" lang="en-US" sz="2400" spc="-1" strike="noStrike">
              <a:solidFill>
                <a:srgbClr val="000000"/>
              </a:solidFill>
              <a:latin typeface="Arial"/>
            </a:endParaRPr>
          </a:p>
          <a:p>
            <a:pPr lvl="1" marL="88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7543-3D3B-44C8-AC6C-B1F493901E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Paper Assessment</a:t>
            </a:r>
            <a:endParaRPr b="0" lang="en-US" sz="3200" spc="-1" strike="noStrike">
              <a:solidFill>
                <a:srgbClr val="372221"/>
              </a:solidFill>
              <a:latin typeface="Arial"/>
            </a:endParaRPr>
          </a:p>
        </p:txBody>
      </p:sp>
      <p:sp>
        <p:nvSpPr>
          <p:cNvPr id="268" name="Text Box 3"/>
          <p:cNvSpPr/>
          <p:nvPr/>
        </p:nvSpPr>
        <p:spPr>
          <a:xfrm>
            <a:off x="685800" y="2895480"/>
            <a:ext cx="7467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69" name="Text Box 4"/>
          <p:cNvSpPr/>
          <p:nvPr/>
        </p:nvSpPr>
        <p:spPr>
          <a:xfrm>
            <a:off x="685800" y="2895480"/>
            <a:ext cx="71629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ven application of analysis. Lots of details in some areas, while sparse in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ing analysis noted in the similarity metric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data isn’t explained well and would have benefited from a direct, graphical comparison of one metric to anot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formation on the composition of training data sets would add clarity to the detection methods noted in Section 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 are presented to detect duplicate records, but no insight is provided on how to resolve or merge dat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50C9-2F65-48DC-92B1-4B947441F2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erminology</a:t>
            </a:r>
            <a:endParaRPr b="0" lang="en-US" sz="4000" spc="-1" strike="noStrike">
              <a:solidFill>
                <a:srgbClr val="372221"/>
              </a:solidFill>
              <a:latin typeface="Arial"/>
            </a:endParaRPr>
          </a:p>
        </p:txBody>
      </p:sp>
      <p:grpSp>
        <p:nvGrpSpPr>
          <p:cNvPr id="111" name="Diagram 5"/>
          <p:cNvGrpSpPr/>
          <p:nvPr/>
        </p:nvGrpSpPr>
        <p:grpSpPr>
          <a:xfrm>
            <a:off x="2371680" y="1611000"/>
            <a:ext cx="4325040" cy="4593240"/>
            <a:chOff x="2371680" y="1611000"/>
            <a:chExt cx="4325040" cy="4593240"/>
          </a:xfrm>
        </p:grpSpPr>
        <p:sp>
          <p:nvSpPr>
            <p:cNvPr id="112" name="_s1028"/>
            <p:cNvSpPr/>
            <p:nvPr/>
          </p:nvSpPr>
          <p:spPr>
            <a:xfrm flipH="1" flipV="1">
              <a:off x="3760560" y="2973600"/>
              <a:ext cx="455760" cy="5839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3" name="_s1029"/>
            <p:cNvSpPr/>
            <p:nvPr/>
          </p:nvSpPr>
          <p:spPr>
            <a:xfrm>
              <a:off x="2950920" y="2035440"/>
              <a:ext cx="986760" cy="1061280"/>
            </a:xfrm>
            <a:prstGeom prst="rect">
              <a:avLst/>
            </a:prstGeom>
            <a:blipFill rotWithShape="0">
              <a:blip r:embed="rId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t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ty</a:t>
              </a:r>
              <a:endParaRPr b="0" lang="en-US" sz="1200" spc="-1" strike="noStrike">
                <a:solidFill>
                  <a:srgbClr val="000000"/>
                </a:solidFill>
                <a:latin typeface="Arial"/>
              </a:endParaRPr>
            </a:p>
          </p:txBody>
        </p:sp>
        <p:sp>
          <p:nvSpPr>
            <p:cNvPr id="114" name="_s1030"/>
            <p:cNvSpPr/>
            <p:nvPr/>
          </p:nvSpPr>
          <p:spPr>
            <a:xfrm flipH="1" flipV="1">
              <a:off x="3351960" y="3738960"/>
              <a:ext cx="696600" cy="1321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5" name="_s1031"/>
            <p:cNvSpPr/>
            <p:nvPr/>
          </p:nvSpPr>
          <p:spPr>
            <a:xfrm>
              <a:off x="2371680" y="3115080"/>
              <a:ext cx="987120" cy="1060920"/>
            </a:xfrm>
            <a:prstGeom prst="rect">
              <a:avLst/>
            </a:prstGeom>
            <a:blipFill rotWithShape="0">
              <a:blip r:embed="rId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fere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a:t>
              </a:r>
              <a:endParaRPr b="0" lang="en-US" sz="1200" spc="-1" strike="noStrike">
                <a:solidFill>
                  <a:srgbClr val="000000"/>
                </a:solidFill>
                <a:latin typeface="Arial"/>
              </a:endParaRPr>
            </a:p>
          </p:txBody>
        </p:sp>
        <p:sp>
          <p:nvSpPr>
            <p:cNvPr id="116" name="_s1032"/>
            <p:cNvSpPr/>
            <p:nvPr/>
          </p:nvSpPr>
          <p:spPr>
            <a:xfrm flipH="1">
              <a:off x="3495960" y="4227120"/>
              <a:ext cx="614160" cy="3808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7" name="_s1033"/>
            <p:cNvSpPr/>
            <p:nvPr/>
          </p:nvSpPr>
          <p:spPr>
            <a:xfrm>
              <a:off x="2574360" y="4343040"/>
              <a:ext cx="987120" cy="1061280"/>
            </a:xfrm>
            <a:prstGeom prst="rect">
              <a:avLst/>
            </a:prstGeom>
            <a:blipFill rotWithShape="0">
              <a:blip r:embed="rId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a:t>
              </a:r>
              <a:endParaRPr b="0" lang="en-US" sz="1200" spc="-1" strike="noStrike">
                <a:solidFill>
                  <a:srgbClr val="000000"/>
                </a:solidFill>
                <a:latin typeface="Arial"/>
              </a:endParaRPr>
            </a:p>
          </p:txBody>
        </p:sp>
        <p:sp>
          <p:nvSpPr>
            <p:cNvPr id="118" name="_s1034"/>
            <p:cNvSpPr/>
            <p:nvPr/>
          </p:nvSpPr>
          <p:spPr>
            <a:xfrm flipH="1">
              <a:off x="4124880" y="4457520"/>
              <a:ext cx="243000" cy="7164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9" name="_s1035"/>
            <p:cNvSpPr/>
            <p:nvPr/>
          </p:nvSpPr>
          <p:spPr>
            <a:xfrm>
              <a:off x="3463560" y="5143320"/>
              <a:ext cx="987120" cy="1060920"/>
            </a:xfrm>
            <a:prstGeom prst="rect">
              <a:avLst/>
            </a:prstGeom>
            <a:blipFill rotWithShape="0">
              <a:blip r:embed="rId4"/>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ing</a:t>
              </a:r>
              <a:endParaRPr b="0" lang="en-US" sz="1200" spc="-1" strike="noStrike">
                <a:solidFill>
                  <a:srgbClr val="000000"/>
                </a:solidFill>
                <a:latin typeface="Arial"/>
              </a:endParaRPr>
            </a:p>
          </p:txBody>
        </p:sp>
        <p:sp>
          <p:nvSpPr>
            <p:cNvPr id="120" name="_s1036"/>
            <p:cNvSpPr/>
            <p:nvPr/>
          </p:nvSpPr>
          <p:spPr>
            <a:xfrm>
              <a:off x="4704120" y="4455360"/>
              <a:ext cx="243000" cy="7164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1" name="_s1037"/>
            <p:cNvSpPr/>
            <p:nvPr/>
          </p:nvSpPr>
          <p:spPr>
            <a:xfrm>
              <a:off x="4623120" y="5141160"/>
              <a:ext cx="986760" cy="1061280"/>
            </a:xfrm>
            <a:prstGeom prst="rect">
              <a:avLst/>
            </a:prstGeom>
            <a:blipFill rotWithShape="0">
              <a:blip r:embed="rId5"/>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a:t>
              </a:r>
              <a:endParaRPr b="0" lang="en-US" sz="1200" spc="-1" strike="noStrike">
                <a:solidFill>
                  <a:srgbClr val="000000"/>
                </a:solidFill>
                <a:latin typeface="Arial"/>
              </a:endParaRPr>
            </a:p>
          </p:txBody>
        </p:sp>
        <p:sp>
          <p:nvSpPr>
            <p:cNvPr id="122" name="_s1038"/>
            <p:cNvSpPr/>
            <p:nvPr/>
          </p:nvSpPr>
          <p:spPr>
            <a:xfrm>
              <a:off x="4960800" y="4223520"/>
              <a:ext cx="614160" cy="3808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3" name="_s1039"/>
            <p:cNvSpPr/>
            <p:nvPr/>
          </p:nvSpPr>
          <p:spPr>
            <a:xfrm>
              <a:off x="5509080" y="4339440"/>
              <a:ext cx="987120" cy="1061280"/>
            </a:xfrm>
            <a:prstGeom prst="rect">
              <a:avLst/>
            </a:prstGeom>
            <a:blipFill rotWithShape="0">
              <a:blip r:embed="rId6"/>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4" name="_s1040"/>
            <p:cNvSpPr/>
            <p:nvPr/>
          </p:nvSpPr>
          <p:spPr>
            <a:xfrm flipV="1">
              <a:off x="5018040" y="3735000"/>
              <a:ext cx="698400" cy="1321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_s1041"/>
            <p:cNvSpPr/>
            <p:nvPr/>
          </p:nvSpPr>
          <p:spPr>
            <a:xfrm>
              <a:off x="5709960" y="3112920"/>
              <a:ext cx="986760" cy="1061280"/>
            </a:xfrm>
            <a:prstGeom prst="rect">
              <a:avLst/>
            </a:prstGeom>
            <a:blipFill rotWithShape="0">
              <a:blip r:embed="rId7"/>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plication</a:t>
              </a:r>
              <a:endParaRPr b="0" lang="en-US" sz="1200" spc="-1" strike="noStrike">
                <a:solidFill>
                  <a:srgbClr val="000000"/>
                </a:solidFill>
                <a:latin typeface="Arial"/>
              </a:endParaRPr>
            </a:p>
          </p:txBody>
        </p:sp>
        <p:sp>
          <p:nvSpPr>
            <p:cNvPr id="126" name="_s1042"/>
            <p:cNvSpPr/>
            <p:nvPr/>
          </p:nvSpPr>
          <p:spPr>
            <a:xfrm flipV="1">
              <a:off x="4849200" y="2971440"/>
              <a:ext cx="455400" cy="5839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_s1043"/>
            <p:cNvSpPr/>
            <p:nvPr/>
          </p:nvSpPr>
          <p:spPr>
            <a:xfrm>
              <a:off x="5129640" y="2035440"/>
              <a:ext cx="986760" cy="1061280"/>
            </a:xfrm>
            <a:prstGeom prst="rect">
              <a:avLst/>
            </a:prstGeom>
            <a:blipFill rotWithShape="0">
              <a:blip r:embed="rId8"/>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a:t>
              </a:r>
              <a:endParaRPr b="0" lang="en-US" sz="1200" spc="-1" strike="noStrike">
                <a:solidFill>
                  <a:srgbClr val="000000"/>
                </a:solidFill>
                <a:latin typeface="Arial"/>
              </a:endParaRPr>
            </a:p>
          </p:txBody>
        </p:sp>
        <p:sp>
          <p:nvSpPr>
            <p:cNvPr id="128" name="_s1044"/>
            <p:cNvSpPr/>
            <p:nvPr/>
          </p:nvSpPr>
          <p:spPr>
            <a:xfrm flipV="1">
              <a:off x="4533480" y="2670480"/>
              <a:ext cx="0" cy="76176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_s1045"/>
            <p:cNvSpPr/>
            <p:nvPr/>
          </p:nvSpPr>
          <p:spPr>
            <a:xfrm>
              <a:off x="4040640" y="1611000"/>
              <a:ext cx="987120" cy="1061280"/>
            </a:xfrm>
            <a:prstGeom prst="rect">
              <a:avLst/>
            </a:prstGeom>
            <a:blipFill rotWithShape="0">
              <a:blip r:embed="rId9"/>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a:t>
              </a:r>
              <a:endParaRPr b="0" lang="en-US" sz="1200" spc="-1" strike="noStrike">
                <a:solidFill>
                  <a:srgbClr val="000000"/>
                </a:solidFill>
                <a:latin typeface="Arial"/>
              </a:endParaRPr>
            </a:p>
          </p:txBody>
        </p:sp>
        <p:sp>
          <p:nvSpPr>
            <p:cNvPr id="130" name="_s1046"/>
            <p:cNvSpPr/>
            <p:nvPr/>
          </p:nvSpPr>
          <p:spPr>
            <a:xfrm>
              <a:off x="4040640" y="3432240"/>
              <a:ext cx="987120" cy="1061280"/>
            </a:xfrm>
            <a:prstGeom prst="rect">
              <a:avLst/>
            </a:prstGeom>
            <a:blipFill rotWithShape="0">
              <a:blip r:embed="rId10"/>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A7E6-2809-4005-8617-DD57B067DE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ferences</a:t>
            </a:r>
            <a:endParaRPr b="0" lang="en-US" sz="4000" spc="-1" strike="noStrike">
              <a:solidFill>
                <a:srgbClr val="372221"/>
              </a:solidFill>
              <a:latin typeface="Arial"/>
            </a:endParaRPr>
          </a:p>
        </p:txBody>
      </p:sp>
      <p:sp>
        <p:nvSpPr>
          <p:cNvPr id="272"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 Elmagaramid, P. Ipeirotis, and V. Verykios, “Duplicate Record Detection: A Survey,” </a:t>
            </a:r>
            <a:r>
              <a:rPr b="0" i="1" lang="en-US" sz="2000" spc="-1" strike="noStrike">
                <a:solidFill>
                  <a:srgbClr val="000000"/>
                </a:solidFill>
                <a:latin typeface="Arial"/>
              </a:rPr>
              <a:t>IEEE Transactions on Knowledge and Data Engineering, </a:t>
            </a:r>
            <a:r>
              <a:rPr b="0" lang="en-US" sz="2000" spc="-1" strike="noStrike">
                <a:solidFill>
                  <a:srgbClr val="000000"/>
                </a:solidFill>
                <a:latin typeface="Arial"/>
              </a:rPr>
              <a:t>vol. 19, no. 1, pp. 1-16, Jan. 2007.</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 Mitkov, “Anaphora Resolution: The State of the Art,”</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ikipedia contributors. "Anaphora (linguistics)." </a:t>
            </a:r>
            <a:r>
              <a:rPr b="0" i="1" lang="en-US" sz="2000" spc="-1" strike="noStrike">
                <a:solidFill>
                  <a:srgbClr val="000000"/>
                </a:solidFill>
                <a:latin typeface="Arial"/>
              </a:rPr>
              <a:t>Wikipedia, The Free Encyclopedia</a:t>
            </a:r>
            <a:r>
              <a:rPr b="0" lang="en-US" sz="2000" spc="-1" strike="noStrike">
                <a:solidFill>
                  <a:srgbClr val="000000"/>
                </a:solidFill>
                <a:latin typeface="Arial"/>
              </a:rPr>
              <a:t>. 26 Jan. 2011. Web. 30 Jan. 2011.</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 McCallum, “Information Extraction: Distilling Structured Data from Unstructured Text,” ACM Queue, vol. 3, no. 9, pp. 48-57, Nov. 2005.</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EC43-5978-49B2-A913-5C18667CC8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ferences</a:t>
            </a:r>
            <a:endParaRPr b="0" lang="en-US" sz="4000" spc="-1" strike="noStrike">
              <a:solidFill>
                <a:srgbClr val="372221"/>
              </a:solidFill>
              <a:latin typeface="Arial"/>
            </a:endParaRPr>
          </a:p>
        </p:txBody>
      </p:sp>
      <p:sp>
        <p:nvSpPr>
          <p:cNvPr id="275" name="PlaceHolder 2"/>
          <p:cNvSpPr>
            <a:spLocks noGrp="1"/>
          </p:cNvSpPr>
          <p:nvPr>
            <p:ph/>
          </p:nvPr>
        </p:nvSpPr>
        <p:spPr>
          <a:xfrm>
            <a:off x="948960" y="1523880"/>
            <a:ext cx="7661160" cy="4114800"/>
          </a:xfrm>
          <a:prstGeom prst="rect">
            <a:avLst/>
          </a:prstGeom>
          <a:noFill/>
          <a:ln w="0">
            <a:noFill/>
          </a:ln>
        </p:spPr>
        <p:txBody>
          <a:bodyPr anchor="t">
            <a:normAutofit/>
          </a:bodyPr>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 Sarawagi and A. Bhamidipaty, “Interactive Deduplication Using Active Learning,” </a:t>
            </a:r>
            <a:r>
              <a:rPr b="0" i="1" lang="en-US" sz="2000" spc="-1" strike="noStrike">
                <a:solidFill>
                  <a:srgbClr val="000000"/>
                </a:solidFill>
                <a:latin typeface="Arial"/>
              </a:rPr>
              <a:t>Proc. Eighth ACM SIGKDD Int’l Conf. Knowledge Discovery and Data Mining (KDD ’02),</a:t>
            </a:r>
            <a:r>
              <a:rPr b="0" lang="en-US" sz="2000" spc="-1" strike="noStrike">
                <a:solidFill>
                  <a:srgbClr val="000000"/>
                </a:solidFill>
                <a:latin typeface="Arial"/>
              </a:rPr>
              <a:t> pp. 269-278, 2002.</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 Caruso, M. Cochinwala, U. Ganapathy, G. Lalk, P. Missier, Telecordia’s Database Reconciliation and Data Quality Analysis Tool,” </a:t>
            </a:r>
            <a:r>
              <a:rPr b="0" i="1" lang="en-US" sz="2000" spc="-1" strike="noStrike">
                <a:solidFill>
                  <a:srgbClr val="000000"/>
                </a:solidFill>
                <a:latin typeface="Arial"/>
              </a:rPr>
              <a:t>Proceedings of the 26</a:t>
            </a:r>
            <a:r>
              <a:rPr b="0" i="1" lang="en-US" sz="2000" spc="-1" strike="noStrike" baseline="30000">
                <a:solidFill>
                  <a:srgbClr val="000000"/>
                </a:solidFill>
                <a:latin typeface="Arial"/>
              </a:rPr>
              <a:t>th</a:t>
            </a:r>
            <a:r>
              <a:rPr b="0" i="1" lang="en-US" sz="2000" spc="-1" strike="noStrike">
                <a:solidFill>
                  <a:srgbClr val="000000"/>
                </a:solidFill>
                <a:latin typeface="Arial"/>
              </a:rPr>
              <a:t> International Conference on Very Large Databases</a:t>
            </a:r>
            <a:r>
              <a:rPr b="0" lang="en-US" sz="2000" spc="-1" strike="noStrike">
                <a:solidFill>
                  <a:srgbClr val="000000"/>
                </a:solidFill>
                <a:latin typeface="Arial"/>
              </a:rPr>
              <a:t>, Egypt, 2000.</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r>
              <a:rPr b="0" lang="en-US" sz="2000" spc="-1" strike="noStrike">
                <a:solidFill>
                  <a:srgbClr val="000000"/>
                </a:solidFill>
                <a:latin typeface="AdvP7C2E"/>
              </a:rPr>
              <a:t>M.G. Elfeky, A.K. Elmagarmid, and V.S. Verykios, “TAILOR: A Record Linkage Tool Box,” </a:t>
            </a:r>
            <a:r>
              <a:rPr b="0" lang="en-US" sz="2000" spc="-1" strike="noStrike">
                <a:solidFill>
                  <a:srgbClr val="000000"/>
                </a:solidFill>
                <a:latin typeface="AdvP7C34"/>
              </a:rPr>
              <a:t>Proc. 18th IEEE Int’l Conf. Data Eng. (ICDE ’02), </a:t>
            </a:r>
            <a:r>
              <a:rPr b="0" lang="en-US" sz="2000" spc="-1" strike="noStrike">
                <a:solidFill>
                  <a:srgbClr val="000000"/>
                </a:solidFill>
                <a:latin typeface="AdvP7C2E"/>
              </a:rPr>
              <a:t>pp. 17-28, 2002.</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vP7C2E"/>
              </a:rPr>
              <a:t>[8] S. O. A. Pei, “A Comparative Study of Record Matching Algorithms, “ </a:t>
            </a:r>
            <a:r>
              <a:rPr b="0" i="1" lang="en-US" sz="2000" spc="-1" strike="noStrike">
                <a:solidFill>
                  <a:srgbClr val="000000"/>
                </a:solidFill>
                <a:latin typeface="AdvP7C2E"/>
              </a:rPr>
              <a:t>European Master in Informatics (EuMI),</a:t>
            </a:r>
            <a:r>
              <a:rPr b="0" lang="en-US" sz="2000" spc="-1" strike="noStrike">
                <a:solidFill>
                  <a:srgbClr val="000000"/>
                </a:solidFill>
                <a:latin typeface="AdvP7C2E"/>
              </a:rPr>
              <a:t> Edinburgh, Scotland,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F3A6-F322-4207-A0F5-0775538B0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Class Q&amp;A</a:t>
            </a:r>
            <a:endParaRPr b="0" lang="en-US" sz="3200" spc="-1" strike="noStrike">
              <a:solidFill>
                <a:srgbClr val="372221"/>
              </a:solidFill>
              <a:latin typeface="Arial"/>
            </a:endParaRPr>
          </a:p>
        </p:txBody>
      </p:sp>
      <p:sp>
        <p:nvSpPr>
          <p:cNvPr id="278" name="Text Box 5"/>
          <p:cNvSpPr/>
          <p:nvPr/>
        </p:nvSpPr>
        <p:spPr>
          <a:xfrm>
            <a:off x="685800" y="2895480"/>
            <a:ext cx="7467480" cy="548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plementing one of the distance techniques, name one reason why you might not want to treat each database record as one long contiguous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the phonetic techniques such as Soundex and NYSIIS might be ideally suited for the criminal justice system? Or Higher Educati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nsiderations do you envision would be needed during the data preparation phase to obtain structured information from unstructured web sourc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resolution of the duplicate record problem benefits or suffers from the apparent lack of synergy among the various research commun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F674-8998-4E83-A768-6E812A0D4B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ata Preparation</a:t>
            </a:r>
            <a:endParaRPr b="0" lang="en-US" sz="3200" spc="-1" strike="noStrike">
              <a:solidFill>
                <a:srgbClr val="372221"/>
              </a:solidFill>
              <a:latin typeface="Arial"/>
            </a:endParaRPr>
          </a:p>
        </p:txBody>
      </p:sp>
      <p:sp>
        <p:nvSpPr>
          <p:cNvPr id="133" name="Text Box 3"/>
          <p:cNvSpPr/>
          <p:nvPr/>
        </p:nvSpPr>
        <p:spPr>
          <a:xfrm>
            <a:off x="838080" y="3465360"/>
            <a:ext cx="7162920" cy="118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uplicate record detection is the process of identifying different or multiple records that refer to one unique real-world entity or object [1].”</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FEB0-BF83-47E2-8B28-6F8C01452B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hree-step Process</a:t>
            </a:r>
            <a:endParaRPr b="0" lang="en-US" sz="4000" spc="-1" strike="noStrike">
              <a:solidFill>
                <a:srgbClr val="372221"/>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sing</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ormation</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ation</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improve data quality and ease comparison</a:t>
            </a:r>
            <a:endParaRPr b="0" lang="en-US" sz="3200" spc="-1" strike="noStrike">
              <a:solidFill>
                <a:srgbClr val="000000"/>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84FE-D2AF-4376-95E2-95EA2C33DE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arsing</a:t>
            </a:r>
            <a:endParaRPr b="0" lang="en-US" sz="4000" spc="-1" strike="noStrike">
              <a:solidFill>
                <a:srgbClr val="372221"/>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s, identifies and isolates individual data element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it easier to correct, standardize and match data</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individual components rather than complex str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F67F-1ADD-4B69-96A0-54BCCE6696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Transformation</a:t>
            </a:r>
            <a:endParaRPr b="0" lang="en-US" sz="4000" spc="-1" strike="noStrike">
              <a:solidFill>
                <a:srgbClr val="372221"/>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nversions of data type</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renam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ding field valu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check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cy che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1125-90AA-4282-82B0-D2D287B7E9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Standardization</a:t>
            </a:r>
            <a:endParaRPr b="0" lang="en-US" sz="4000" spc="-1" strike="noStrike">
              <a:solidFill>
                <a:srgbClr val="372221"/>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ertain fields in a standard format</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es </a:t>
            </a:r>
            <a:endParaRPr b="0" lang="en-US" sz="28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US Postal Service Address Verification</a:t>
            </a:r>
            <a:r>
              <a:rPr b="0" lang="en-US" sz="2400" spc="-1" strike="noStrike">
                <a:solidFill>
                  <a:srgbClr val="000000"/>
                </a:solidFill>
                <a:latin typeface="Arial"/>
              </a:rPr>
              <a:t> tool</a:t>
            </a:r>
            <a:endParaRPr b="0" lang="en-US" sz="24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and time formatting</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first, last, middle, prefix, suffix)</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s</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4:58:38Z</dcterms:created>
  <dc:creator>Corren McCoy</dc:creator>
  <dc:description/>
  <dc:language>en-US</dc:language>
  <cp:lastModifiedBy>Corren McCoy</cp:lastModifiedBy>
  <dcterms:modified xsi:type="dcterms:W3CDTF">2011-02-08T17:21:27Z</dcterms:modified>
  <cp:revision>132</cp:revision>
  <dc:subject/>
  <dc:title>Duplicate Record Detection: A Survey</dc:title>
</cp:coreProperties>
</file>